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014-CD0D-4DAF-A1CD-7CDD0163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933-64D1-4D2B-BB75-DBB0DD2D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7B6-5972-489E-96F9-09627914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6CF-9DA8-4061-87D1-6531F5D8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9475-A13E-4E12-B934-A803EE25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BC88-B06E-409B-8D56-1CD3833E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6741-4DF4-44A1-9153-B39A028B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54F-B38E-4917-AB5D-EAB375F5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CA80-A2BD-4AA3-B700-C23B7143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AC4A-1B2E-4284-BCBE-BE067ED1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6810-1BB3-4409-B95D-0D84717B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463-DAAE-4E21-8243-DCC48CCF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BFB3-6195-4C53-8553-E393A670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F3E3-FCDD-4C43-B811-CC8F4C93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B8D0-F307-4151-AB50-657570CA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EA1A-BDC5-4FFE-B30E-F3287CCC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DF9-3937-403E-896C-0F03DA98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45B-B163-409E-BD84-EE216734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12B-635C-4DF1-A0F9-AA4F0B84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031-F709-48C6-A350-A23593A4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CD0-B2FD-4CDB-976C-2E5A4A52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BE0-75B4-400A-B53D-C05163BB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B86-FED4-4F76-83F5-E07852B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44A-0D7C-4812-872A-FB3233F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900D-2156-49C8-BEB4-8F15AB4E95D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1117-65D7-4B42-AC72-EC0AA87F9C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onsumer Behaviou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R 1100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Behavio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finit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actions that a person tak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 purchasing an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ducts and servi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the mental an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cial processes th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ce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follow these actio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Consumer Purchase Decision Process (CPD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ceive a need: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roblem Recogni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ek information on how to fill the need: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Information Search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 (Internal sources &amp; External Sourc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sessing the information: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lternative Evalua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  (Form an Evoked Set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and Alternative: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urchase Deci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Purchase feeling: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ost-purchase Behaviou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(Cognitive Dissonanc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vel of Involvement in the CPD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ertain buying situations require more consideration than others.  There are three types of problem solving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Routine Problem Solv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Used to buy common goods that have little risk.  (e.g. buying your usual type of toothpaste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Limited Problem Solv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Used to buy more complex, less often purchased items that may offer more risk. (e.g. buying car mat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xtended Problem Solv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Used to buy complex items with great risk. (e.g. buying a new ca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fluences on the CPD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ituational Influe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sychological Influe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inly internal, your mindset affects the CPD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ciocultural Influe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085760" indent="-217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fluence that come from society and our social surround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rketing Mix Influe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085760" indent="-217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tuational Influ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ituational Influences includ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urchase Task - Amount of effort require to buy a produc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ocial Surroundings - The people around you when you bu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hysical Surrounding - The building/place you are in to bu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emporal Effects - Time related effect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ntecedent State - Mood of the buy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sychological Influ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otiv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ee Maslow’s Hierarchy of nee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ersonali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ercep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Note the perception process - Selective perception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Note the importance of risk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Learn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Behavioural Learning - learned through experienc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Cognitive Learning - learned through mental processes such as thinking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Brand Loyalty -  learned through experience or other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Values, Beliefs &amp; Attitu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Attitude formation &amp; changing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Lifesty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Mode of living - Self defined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ciocultural Influ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ersonal Influ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Opinion leaders affect your decision as does word-of-mouth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Reference Group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You look to these people as a measure of your relative sta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Family Influ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ocial Cla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The division of society that you feel you fall int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ulture and Subcult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keting Mix Influ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great deal of influence on the CPDP by th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roduct itsel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Price of the produc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way the product is Promo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Place where the product is sold or how it is deliver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Paul Tilley</cp:lastModifiedBy>
  <dcterms:modified xsi:type="dcterms:W3CDTF">2003-10-17T12:42:01Z</dcterms:modified>
  <cp:revision>7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